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38F-7CC0-4CC1-8508-F674E51D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131-934D-419C-8399-3350484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449-FA3C-4487-9719-160735BE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C8D-4667-479C-AA5F-A4D54F8A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142-8F8C-4394-82E4-24DD8ADA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20E-899F-44D6-B5C2-C0C5FDF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C2F-26D8-43F3-B957-7696714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960-BEE6-4458-BBBA-E122BDD5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BE9-A3AB-4ECC-8219-A49C35AC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568-DC31-4616-B109-43420E4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CCF-E3AD-49D1-BA3B-DB33F55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573-166F-4434-B0EC-7614D36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8B5-93BF-4C1F-A2B5-ABF30816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38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 gira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us reg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1497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ois girafes en 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866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 bigou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4496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homme porte des bigoud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51240" y="1600200"/>
            <a:ext cx="42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288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 pla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37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 or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81168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 ar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79640" y="1600200"/>
            <a:ext cx="3382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90720" y="38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 p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210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jolies p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2:27:37Z</dcterms:created>
  <dc:creator>pheimerdinger</dc:creator>
  <dc:description/>
  <dc:language>en-US</dc:language>
  <cp:lastModifiedBy>pheimerdinger</cp:lastModifiedBy>
  <dcterms:modified xsi:type="dcterms:W3CDTF">2006-09-13T03:30:05Z</dcterms:modified>
  <cp:revision>2</cp:revision>
  <dc:subject/>
  <dc:title>une girafe </dc:title>
</cp:coreProperties>
</file>